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FAFC-ABDE-4E03-9D12-69945E7B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0CC6-F296-4CC6-BF51-F6847C34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5183-8925-46F2-B020-834D7534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8D8A-D365-4F80-A9A1-3580AB42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7254-AE13-49D9-893B-F100489A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2A6-693F-4019-A050-1A724F3A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86D0-78AC-4299-8980-A7EE9EAD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2C21-BC50-4FA4-B442-B0D6000B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364A-3CE3-466B-9DEB-E78DB73D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4DA-EE16-4C6D-9C6E-44A74133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E018-8395-4516-86FE-A22AD075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0B1C-9BB8-4342-8D11-5C9FFE06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3256-8220-4F7D-A480-D5C0D4094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5257800"/>
            <a:ext cx="79246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 Car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8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#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457200"/>
            <a:ext cx="7239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e Old Indian village meets Technology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84582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20:03:27Z</dcterms:created>
  <dc:creator>install</dc:creator>
  <dc:description/>
  <dc:language>en-US</dc:language>
  <cp:lastModifiedBy>install</cp:lastModifiedBy>
  <dcterms:modified xsi:type="dcterms:W3CDTF">2010-03-08T20:21:13Z</dcterms:modified>
  <cp:revision>2</cp:revision>
  <dc:subject/>
  <dc:title>Slide 1</dc:title>
</cp:coreProperties>
</file>